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C52117-2F0D-4468-B2E1-ACCD55B98F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level – fair execution of process steps and user automata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level – fair access to shared re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passes….if a process is in T for some time, the during this time, some other user may enter C only a number of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ual exclusion : similar to dijkstra. If proc I and j are in C, assume I sets flag first. After j sets flag to 1, it has to check to see if I has flag = 1, but this will happen while flag(i)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ex: means that if two things are in C, then number(i),I &lt; number(j),j and vice versa which is a contrad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: Proof by contradiction. Suppose all processes in T or R because progress is not guaranteed. All processes in T eventually complete so process with lowest is going to enter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kout freedom: complex pro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writer: Process I goes from T to C…writes atleast one shared var. So if there are two process, then atleast n shared vars req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relation: s pi sprime where s and sprime are automaton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enabled: for every automaton state S and transition pi, there is exists sprime such that s pi sprime is in tr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ity restrictions: Any state change not involving shared var can change state in local process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variables: only read and 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region is between try and cr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 is between crit and ex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t is between exit and 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 is between rem and next 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formed: A try-crit-exit-rem is the prefix to many more s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ex: No reachable system state in which more than one user is in a critical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: If one program is in try and none in critical then at some point someone enters C. Similarly for exit region and non 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wo are safety properties,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iveness….notion of fairness in pro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responsibility for progress….upto users also…not just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kout: No guarantee that everyone will get to critical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942A8-C92C-4381-8E3A-4BABC2234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C82CE-7F6A-43AA-91DC-7A677722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A37D2-CB6E-4136-A64B-C646BC6B8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8BCEF-5006-4730-82D9-2197ECBE0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87EE-BECA-4309-8B46-6B991ABA2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248F-7F16-4804-B5D8-931C3803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0CD5-0423-4377-AA2A-66DA56A8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DDBD-F2E8-40A5-931C-D900EA25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9813-64B4-4EA3-812A-AFA4C100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E8EB-4D19-4BB5-873D-0A7BC334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8388-9A97-4307-A1AA-B588D689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C51F3-F2BE-4215-815B-2F82646C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E00A-66B7-4B25-AAA2-579592BD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8FB1-F1A8-4A1E-9BD4-882D63E6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3B58-57F5-4641-A504-E08C9DA9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A8B0-5FB6-4EBF-BA1B-2F95F1ACC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95F5-A8E2-4B6F-BAB1-3D1CE5142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1688D-DD0E-4337-BB5C-AF87EDA2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E5907-B8AA-4E8C-9E7D-EEDBB3B7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53252-4838-49AE-A9B0-F60DC26B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C6AE7-E0D9-4074-AD35-7C7FDDC6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79857-A3DF-4D22-AFEB-3F1F5BE3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6D6E8-4646-4DAA-B6B4-98C603EC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E08A7-C4E0-4FA9-BEFB-6F7600F3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FB13-A4A6-4361-97A6-2138A941E8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16EF-5657-465D-9F13-4E54C5AC76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utual Exclus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esented by: Rohan S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istributed Algorithms Ch. 1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onger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lockouts or sta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ds of fair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level fair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level fair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onger Conditions (cont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kout free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user that reaches T eventually enters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user that reaches E eventually enters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bou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each user returns resource within ti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each step is at mo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 you enter C at mo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 = f(l,c)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entering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ly, you enter R at mo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 = f(l,c)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entering 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byp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NP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k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each level eliminate on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– k processes can win at level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process can win at level n – 1, yielding mutual ex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NP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685800" y="2362320"/>
                <a:ext cx="4425840" cy="17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very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very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urn(k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d / wr by all, initially arbit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lag(i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d by all j ≠ i / wr by I, initially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6002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NP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066680" y="1981080"/>
                <a:ext cx="5829480" cy="335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aitfor</m:t>
                        </m:r>
                        <m:r>
                          <m:t xml:space="preserve">[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&lt;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NP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well 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isfies mutual ex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kout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g. Using Single Writer Shared Registers (BurnsME Algorith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if anyone else is trying to get a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 claim on the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nsM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09480" y="2286000"/>
                <a:ext cx="345276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very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4000320"/>
            <a:ext cx="822960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d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lag(i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r by i / rd by all j ≠ I, initially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nsM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066680" y="1828800"/>
                <a:ext cx="381024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t xml:space="preserve">L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j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oto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j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oto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j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oto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nsM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well 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mutual ex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 that will be cove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 and problem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jkstra’s Mutual Exclusion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er Conditions for Mutual Exclusion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out-free Mutual Exclusion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Writer Shared Register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akery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O after a wait-free door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orway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one picks a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its for everyone to fi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 ties and enter critical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57200" y="2057400"/>
                <a:ext cx="33940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very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hoosn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∈</m:t>
                        </m:r>
                        <m:r>
                          <m:t xml:space="preserve"> </m:t>
                        </m:r>
                        <m:r>
                          <m:t xml:space="preserve">Ν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4000320"/>
            <a:ext cx="822960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d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oosng(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 by i / rd by all j ≠ I, initially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umber(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 by i / rd by all j ≠ I, initially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2577600"/>
            <a:ext cx="40384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85800" y="1828800"/>
                <a:ext cx="7924680" cy="42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oosn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≠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oosn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ait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hoosn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aitfornumber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&lt;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well 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isfies mutual ex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lockout free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er bound on # regi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solve mutual exclusion with &lt;n shared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writer shared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 writer shared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ual exclusion: One at a time access to a shared re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ual exclusion w/o fai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ual exclusion w/ fai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izing the number of reg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2590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hared memory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process is a kind of stat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kinds of actions: input, output, in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ommunication via the shared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s a transition relation for all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is input-en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output and internal en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ity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shared variable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ion of single, indivisible, non-shareable resource amo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s by a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ing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inder (non-critical reg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05520" y="2666880"/>
            <a:ext cx="1981080" cy="20574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02800" y="2666880"/>
            <a:ext cx="5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05720" y="2895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010280" y="3429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7057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5880" y="5029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interface of a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lem (cont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ared memory syste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lves the mutual exclusion probl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the following conditions are satisfi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forme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ual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jkstra’s Mutual Exclusion Al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two stage flag to indicate what stage of processing a user i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mutual exclusion by ensuring that only one flag at a time has a value to let it into the critical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jkstra’s Mutual Exclusion Al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762120" y="2311560"/>
                <a:ext cx="60195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very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,2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4000320"/>
            <a:ext cx="822960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ur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 / wr by all processes, intially arbit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lag(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 by all / wr by I, initially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75248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red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jkstra’s Mutual Exclusion Al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295280" y="1752480"/>
                <a:ext cx="4876920" cy="460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t xml:space="preserve">L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i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 </m:t>
                        </m:r>
                        <m:r>
                          <m:t xml:space="preserve">≠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oto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x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jkstra’s Mutual Exclusion Al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well-forme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inspection of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isfies mutual ex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statu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mplex p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04:22:41Z</dcterms:created>
  <dc:creator>Rohan Sen</dc:creator>
  <dc:description/>
  <dc:language>en-US</dc:language>
  <cp:lastModifiedBy>Rohan Sen</cp:lastModifiedBy>
  <dcterms:modified xsi:type="dcterms:W3CDTF">2003-09-19T18:11:57Z</dcterms:modified>
  <cp:revision>27</cp:revision>
  <dc:subject/>
  <dc:title>Mutual Exclusion</dc:title>
</cp:coreProperties>
</file>